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426C-3687-4E74-AB50-8653A894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DF17-14A2-4695-8BEB-B583A544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F760-AFF3-43C2-9ED3-D98636BC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3C3A-82D1-4B5C-BC9C-930E6893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4402-A91B-4EC3-95D7-F513078B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0F93-18F4-47CA-A3CE-31F28FFC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6DAE-ABEC-489A-A743-58EACBE9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A3B0-D88E-4A70-89CC-188D41B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AFC8-1EFC-446D-9F64-7A91D64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47EB-DB33-4446-86DF-6B1D2A9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2B4-59D0-4724-AC4B-ABBB145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1F758-098D-4246-99ED-44C39E74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E75-16A3-45C6-B999-2A2622F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75F9-F0B6-46B0-998E-92AC8B47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8E5F-A575-41CF-90BC-6F24B03D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8D2E-0AB4-445F-A0F0-FAA9E8D1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C3B4-1CE5-48BF-8E59-0DAA8CE7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CC86-8B9E-49FA-93CA-15A5D2A9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1EC2-0F8A-4658-BF2D-5251F209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FF78-7F13-4280-9410-FE78A283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F6C8-B2D6-4F5C-8401-F823033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8E8E-FA3D-4E44-9986-7C89EC1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DA9D-FFD5-43E8-8ABB-7479C28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F53C-01DF-440F-A2BD-D524B398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B9B3-9894-4CE6-B056-7D3B187AAC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67F6-082B-460D-8960-C0FA035EE5F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81 (52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Молитвен час, молитвен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ове ме сладко Бащин гл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ове от тоз плачевен до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благодатния престо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азва: „От лъстив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бягай ти в самотна кле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`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там търси ти твоя Спас в молитвения сладък час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Молитвен часе, ти за м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слон си бил в най-злия ден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опасности и във'бе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ушевен щит си, свобод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теб избягвам примки вред, плътта, греха на този свят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криляш ти молбите м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еч в небесни виси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олитвен ча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! Винаг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радост, помощ ми бъд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де при Господа Хри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стигна в сияйна висот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то с радост в небес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Бога аз се възне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ще веч имам нужда 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земния молитвен ч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1:24Z</dcterms:modified>
  <cp:revision>113</cp:revision>
  <dc:subject/>
  <dc:title>Slide 1</dc:title>
</cp:coreProperties>
</file>